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B298-C20C-4079-90F2-ECE03FA25F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by Educational Technology Network. www.edtechnetwork.com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28EE-5039-4DB5-B7EC-F8FA410CF2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05AA-FA4D-42A4-A039-A14D39ABF4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6DD2-7DA3-43CA-BCE7-58D718ECFE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0029-E002-4163-A2ED-1528ED4CE0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E839-B370-4C2A-B88B-A8F3EA2BB8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CB5D-779A-420B-B540-BC4EEC63ED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79DB-E85F-4391-8645-85606B2563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CAE5-B9EE-4158-95FE-34D8772696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77E4-E0BA-41A5-B3AA-31BC76B909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5E53-86F0-4021-A200-146D9CEFEB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31A0-EA90-453F-9E9B-52B745D2E2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91BA-1221-431E-A504-9A419CD38C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81C9-30A2-4A56-8B1C-8E0EF82780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7474-C6BC-4666-BA0C-007AFAAD8E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941B-E56B-4EB6-99E2-9DC736476C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A1EC-C0D2-4C27-878D-7D224075DC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284B-AEA4-4284-9810-340B5F805B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92DA-67B5-47AB-AFDC-656148FFDE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9C45-31B3-4700-BEC4-7DB5D27C03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F2FD-A3B0-42B4-A982-2E23FB3EC8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CE07-2395-4F91-92AE-3C6BFD63A4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3B4B-DFE1-4608-9FCD-DB184A0EBC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90FA-9346-4D03-9D20-ABEBDF8558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DD72-1FB3-48C1-84F9-A3B2B866D5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C1D7-B9BC-4FAB-BB96-4EC519AE15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D7A3-2EF1-41A2-BF67-CD123A9B5D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4DF4-95A2-4D41-BFEB-2FF0A5D424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A8A9-B919-4308-985F-FA9F023F38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4621-7DA2-4E75-AE13-AC1E0040E7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2C80-2445-465B-8372-93428FA537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19F2-DAAF-4201-AFC6-CC23CFF3C9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427D-053A-4F29-BCE9-80CB5F308A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433B-187D-4715-A057-D01E69084F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09F0-FCE0-4468-9ECE-11BECB65A4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2409-D270-40E0-AA85-8BB0AC79D0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C6DB-C419-4622-A1D5-46E16B6121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C834-F480-49DE-ACC0-560EE690BE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9CD0-91FF-44F9-8A33-9C8D9DF4E1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1AC6-4B02-4C32-80F2-518A2768AF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B283-A2F7-4BBA-BD8E-A34C166EF8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B14D-AB84-4CFD-8EA2-86C53C9983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BFCE-8E0C-4BD0-86E1-84292FFC23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1E3D-567C-49DE-B97F-6935797FAE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6056-DEC1-4D0C-B20D-B0DCD00130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1484-9FC6-40ED-B8B9-EE6644EE69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CF70-CF81-47AC-8984-232DF43CFF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E1B5-DE5F-4B7A-A4EC-0CEC6DC7BE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78C5-A1AD-4A0E-8E5F-11C55CD77A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697D-BE44-497F-90A9-C9B5A8EF5A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79B5-C3FC-498B-9EEB-CF42AA04E3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932E-60C6-480C-B090-79CE66AA57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8DBC-939C-4412-871F-D3E7D3D8D5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A7DD-9E74-403A-80B2-31E8A77AB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41D4-C529-4834-BD54-BB604532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18A9-3212-431E-A055-631D562B4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A8B8-7ADE-4FA8-A55E-CB27BDFFC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BB8C-BE16-4DE9-B947-2D560737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A5BB-8AB1-4525-AA36-31AB6D07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1868-5FC7-465B-8CD5-D93B8819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D1DB-97B4-4B73-9663-464EDC5F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D0B8-DE53-4B5A-975A-2112176C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3B88-E3B5-451C-A6B7-872A3BB2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95D0-9EC1-47A9-B8D5-BCD5C7A3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0E2D-C7B9-4AA9-8F44-91A5032C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2340-A0CA-4B57-A2BF-0D0547BC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FC56-E5A1-4C97-8824-00961482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6495-BAEA-47E5-9C70-0E4C1C46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D21B-F9C5-4C5B-B37F-A864FE1E0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1E82-526E-4D31-94EF-7A8CDA646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1444-A9BE-4198-A678-8DA1E3D2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E536-95E3-49B3-A18D-918989FB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150F-4027-43C3-8420-00DC1CE1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EB28-B859-414F-9597-26A4F1FB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3A85-83DF-4C3C-8729-AB60EA93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17F8-BAB6-47B0-AFF3-608AAD59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5CF1-3D94-42A4-9CE4-B932248E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56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B6A6-5301-40D6-8FB4-174AA21EA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56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3.xml"/><Relationship Id="rId3" Type="http://schemas.openxmlformats.org/officeDocument/2006/relationships/slide" Target="slide23.xml"/><Relationship Id="rId4" Type="http://schemas.openxmlformats.org/officeDocument/2006/relationships/slide" Target="slide33.xml"/><Relationship Id="rId5" Type="http://schemas.openxmlformats.org/officeDocument/2006/relationships/slide" Target="slide43.xml"/><Relationship Id="rId6" Type="http://schemas.openxmlformats.org/officeDocument/2006/relationships/slide" Target="slide5.xml"/><Relationship Id="rId7" Type="http://schemas.openxmlformats.org/officeDocument/2006/relationships/slide" Target="slide15.xml"/><Relationship Id="rId8" Type="http://schemas.openxmlformats.org/officeDocument/2006/relationships/slide" Target="slide25.xml"/><Relationship Id="rId9" Type="http://schemas.openxmlformats.org/officeDocument/2006/relationships/slide" Target="slide35.xml"/><Relationship Id="rId10" Type="http://schemas.openxmlformats.org/officeDocument/2006/relationships/slide" Target="slide45.xml"/><Relationship Id="rId11" Type="http://schemas.openxmlformats.org/officeDocument/2006/relationships/slide" Target="slide7.xml"/><Relationship Id="rId12" Type="http://schemas.openxmlformats.org/officeDocument/2006/relationships/slide" Target="slide17.xml"/><Relationship Id="rId13" Type="http://schemas.openxmlformats.org/officeDocument/2006/relationships/slide" Target="slide27.xml"/><Relationship Id="rId14" Type="http://schemas.openxmlformats.org/officeDocument/2006/relationships/slide" Target="slide37.xml"/><Relationship Id="rId15" Type="http://schemas.openxmlformats.org/officeDocument/2006/relationships/slide" Target="slide47.xml"/><Relationship Id="rId16" Type="http://schemas.openxmlformats.org/officeDocument/2006/relationships/slide" Target="slide9.xml"/><Relationship Id="rId17" Type="http://schemas.openxmlformats.org/officeDocument/2006/relationships/slide" Target="slide19.xml"/><Relationship Id="rId18" Type="http://schemas.openxmlformats.org/officeDocument/2006/relationships/slide" Target="slide29.xml"/><Relationship Id="rId19" Type="http://schemas.openxmlformats.org/officeDocument/2006/relationships/slide" Target="slide39.xml"/><Relationship Id="rId20" Type="http://schemas.openxmlformats.org/officeDocument/2006/relationships/slide" Target="slide49.xml"/><Relationship Id="rId21" Type="http://schemas.openxmlformats.org/officeDocument/2006/relationships/slide" Target="slide11.xml"/><Relationship Id="rId22" Type="http://schemas.openxmlformats.org/officeDocument/2006/relationships/slide" Target="slide21.xml"/><Relationship Id="rId23" Type="http://schemas.openxmlformats.org/officeDocument/2006/relationships/slide" Target="slide31.xml"/><Relationship Id="rId24" Type="http://schemas.openxmlformats.org/officeDocument/2006/relationships/slide" Target="slide41.xml"/><Relationship Id="rId25" Type="http://schemas.openxmlformats.org/officeDocument/2006/relationships/slide" Target="slide51.xm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JeopardyIcon5.png"/>
          <p:cNvPicPr/>
          <p:nvPr/>
        </p:nvPicPr>
        <p:blipFill>
          <a:blip r:embed="rId1"/>
          <a:stretch/>
        </p:blipFill>
        <p:spPr>
          <a:xfrm>
            <a:off x="0" y="171360"/>
            <a:ext cx="9280440" cy="386712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4" descr=""/>
          <p:cNvPicPr/>
          <p:nvPr/>
        </p:nvPicPr>
        <p:blipFill>
          <a:blip r:embed="rId2"/>
          <a:stretch/>
        </p:blipFill>
        <p:spPr>
          <a:xfrm>
            <a:off x="762120" y="4322880"/>
            <a:ext cx="7089480" cy="85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late and apply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take information from several sources and  use it to create a new ideas or new information is t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ynthesiz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never give up, to work through difficult and challenging work is an example of which OLHS habit of mind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llectual Perseverance.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flecting upon the steps you took to accomplish a math problem so that  you can remember how to do it again is an example of this habit of mind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tacogni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oking up the lyrics of a song you heard on the radio is an example of this OLHS Habit of Mind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llectual Curios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unning a football play over and over again until you are sure you have it is an  example of this Habit of Mind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 College Readin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 Habits of Mi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 Ethic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. Vocabu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. True or 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2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4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5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6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7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8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0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1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2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3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4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llectual Perseveranc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nking about your own thinking is example of this Habit of Mind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tacognition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word is a synonym for ethics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is 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alues or moral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is following your gut feelings about something; do you feel good about it or guilty?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thics of Conscie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thics of virtue can be described as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llowing the desire to prove yourself to be the most perfect person you can b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is following what is right for you, regardless of the consequences to other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scribe the elements of description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thics of Egois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 of False: We study ethics because people’s assumptions, and values influence text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is someone who believes life is already determined and that one’s choices have little impact on the outcome of one’s life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talis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hilosophical beliefs are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set of principles, values, or ethic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is the art or science of governing or the workings of government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litic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word means “not about or having to do with religion”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provide quantitative and qualitative details of something observabl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2" descr="C:\Users\Robin\AppData\Local\Microsoft\Windows\Temporary Internet Files\Content.IE5\UKPIYV1G\MCj0442122000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ular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word is a synonym for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assumption, value, and ethic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elief or Opinio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 or False: Society’s view of nature does not change over time or influence text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l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 or False:  Only print is considered text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l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 or False: Writing about one’s own opinion and beliefs is considered objectiv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ls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 or False: All texts contain an argument of some kind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summarize is to 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 or False: An important activity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During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Reading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to note the external features of a text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ls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condense a text or information to its most important main ideas.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2" descr="C:\Users\Robin\AppData\Local\Microsoft\Windows\Temporary Internet Files\Content.IE5\UKPIYV1G\MCj0442122000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definition of analysis is t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break something down into its basic parts, to study something closely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use something  you learn  in a new situation is this college readiness skill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3:06:01Z</dcterms:created>
  <dc:creator>Educational Technology Network</dc:creator>
  <dc:description>www.edtechnetwork.com</dc:description>
  <cp:keywords>Jeopardy Powerpoint Template;Educational Technology</cp:keywords>
  <dc:language>en-US</dc:language>
  <cp:lastModifiedBy>michelle.clark-cadwe</cp:lastModifiedBy>
  <dcterms:modified xsi:type="dcterms:W3CDTF">2013-08-13T15:35:05Z</dcterms:modified>
  <cp:revision>25</cp:revision>
  <dc:subject>Jeopardy Template</dc:subject>
  <dc:title>POWERPOINT JEOPARDY</dc:title>
</cp:coreProperties>
</file>